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569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A897-1088-41DE-BDB2-A97E29BBCA08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Kompliserar priori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odellering: to-lag: komposisjon osv i lukka sløyfe, meir kontrollert ste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4F8B-11D6-4127-8765-68862B67F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386C-710D-405E-B9E5-EF1F280D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4B42-5153-406C-975D-9BD71BCC2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048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204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92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048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204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2D4A-9F5D-4B84-8128-885D232C9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920" y="271440"/>
            <a:ext cx="89661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EA57-F296-476D-86F9-2A8AC76A8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048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204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92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048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204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AB22-484F-457F-95B5-1F86C2653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D7C9-99A0-46C7-9CC2-8D0DA46A8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3842-B09D-4C5B-A086-5BD4F458F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8920" y="271440"/>
            <a:ext cx="89661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0DA7-0FF0-4A3F-9D7B-D48AA3AFD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839E-751F-4535-9056-6836C0C47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BDE8-94DF-4D23-B338-18C2BE694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4FA2-A251-4BD6-80DA-C0E4A04B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4008" r="22524" b="0"/>
          <a:stretch/>
        </p:blipFill>
        <p:spPr>
          <a:xfrm>
            <a:off x="88920" y="6392880"/>
            <a:ext cx="694692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34120" y="6394320"/>
            <a:ext cx="1920960" cy="3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1049400" indent="-1922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523880" indent="-2840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911240" indent="-19656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911240" indent="-196560">
              <a:spcBef>
                <a:spcPts val="1250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911240" indent="-196560">
              <a:spcBef>
                <a:spcPts val="1250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88920" y="270000"/>
            <a:ext cx="8967600" cy="1440"/>
          </a:xfrm>
          <a:custGeom>
            <a:avLst/>
            <a:gdLst/>
            <a:ahLst/>
            <a:rect l="l" t="t" r="r" b="b"/>
            <a:pathLst>
              <a:path w="5994" h="1">
                <a:moveTo>
                  <a:pt x="0" y="0"/>
                </a:moveTo>
                <a:lnTo>
                  <a:pt x="5994" y="0"/>
                </a:lnTo>
              </a:path>
            </a:pathLst>
          </a:custGeom>
          <a:solidFill>
            <a:srgbClr val="ed8000"/>
          </a:solidFill>
          <a:ln w="9360">
            <a:solidFill>
              <a:srgbClr val="ed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8920" y="5852880"/>
            <a:ext cx="7596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569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99560" y="0"/>
            <a:ext cx="10555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52E-90F5-4D88-8D6C-5BFDF385D3F4}" type="slidenum">
              <a:rPr b="0" lang="en-GB" sz="1000" spc="-1" strike="noStrike">
                <a:solidFill>
                  <a:srgbClr val="00256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920" y="272520"/>
            <a:ext cx="8966160" cy="143532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3429000"/>
            <a:ext cx="8966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920" y="4503600"/>
            <a:ext cx="8966160" cy="224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34120" y="6394320"/>
            <a:ext cx="1920960" cy="35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282240" y="0"/>
            <a:ext cx="7629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8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256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lvl="1" marL="3780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857160" algn="ctr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239840" algn="ctr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714680" algn="ctr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920" y="272520"/>
            <a:ext cx="8966160" cy="143532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4000" spc="-1" strike="noStrike">
                <a:solidFill>
                  <a:srgbClr val="002569"/>
                </a:solidFill>
                <a:latin typeface="Verdana"/>
              </a:rPr>
              <a:t>Koordinator MPC med fokus på føde maksimalisering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8920" y="1708200"/>
            <a:ext cx="8966160" cy="19080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2569"/>
                </a:solidFill>
                <a:latin typeface="Verdana"/>
              </a:rPr>
              <a:t>Del av PhD arbeid med fokus på Kårstø anlegget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2569"/>
                </a:solidFill>
                <a:latin typeface="Verdana"/>
              </a:rPr>
              <a:t>Elvira Aske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Ny SEPTIC funksjon - CalcLpOp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entar info frå MPC applikasjonen, set det opp på forma (*) og løyser ved hjelp av Simplex algoritm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EPTIC Calc formulering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Alg=lpopt(ncv,nmv,C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1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,...,C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ncv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, M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1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,..., M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nmv,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BJFCOEFF_MVR1,...,OBJFCOEFF_MVRnmv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bjekt funksjon = OBJFCOEFF_MVR1*MVR1+ ... +OBJFCOEFF_MVRnmv*MVRnmv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igh/Low limit på CVR/MVR/DVR blir respekter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Algoritmen les Evr med id MVR1LPHI eller MVR1LPLO om dei eksisterar i staden for High/Low limi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Resultatet for kvar enkelt MVR/CVR blir skreve til Evr med id MVRiRES/CVRiRES om den eksister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Calc funksjonen returnerar maks verdien av objekt funksjon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875800" cy="2847960"/>
            <a:chOff x="0" y="0"/>
            <a:chExt cx="8875800" cy="28479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45812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0" y="836640"/>
              <a:ext cx="7308720" cy="719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56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9320" y="404640"/>
              <a:ext cx="2076480" cy="396720"/>
            </a:xfrm>
            <a:prstGeom prst="rect">
              <a:avLst/>
            </a:prstGeom>
            <a:solidFill>
              <a:srgbClr val="d1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000" spc="-1" strike="noStrike">
                  <a:solidFill>
                    <a:srgbClr val="ed2f09"/>
                  </a:solidFill>
                  <a:latin typeface="Verdana"/>
                </a:rPr>
                <a:t>Calc funksjonen</a:t>
              </a:r>
              <a:endParaRPr b="0" lang="en-US" sz="2000" spc="-1" strike="noStrike">
                <a:solidFill>
                  <a:srgbClr val="002569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440" y="1639800"/>
            <a:ext cx="9114840" cy="5136120"/>
            <a:chOff x="28440" y="1639800"/>
            <a:chExt cx="9114840" cy="5136120"/>
          </a:xfrm>
        </p:grpSpPr>
        <p:grpSp>
          <p:nvGrpSpPr>
            <p:cNvPr id="131" name=""/>
            <p:cNvGrpSpPr/>
            <p:nvPr/>
          </p:nvGrpSpPr>
          <p:grpSpPr>
            <a:xfrm>
              <a:off x="28440" y="1639800"/>
              <a:ext cx="9114840" cy="4715280"/>
              <a:chOff x="28440" y="1639800"/>
              <a:chExt cx="9114840" cy="47152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40" y="1639800"/>
                <a:ext cx="9081000" cy="47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9108000" y="2003040"/>
                <a:ext cx="0" cy="430344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17480" y="2003040"/>
                <a:ext cx="3025800" cy="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04280" y="6306840"/>
                <a:ext cx="6016320" cy="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8440" y="2003040"/>
              <a:ext cx="7110000" cy="4772880"/>
              <a:chOff x="28440" y="2003040"/>
              <a:chExt cx="7110000" cy="4772880"/>
            </a:xfrm>
          </p:grpSpPr>
          <p:sp>
            <p:nvSpPr>
              <p:cNvPr id="137" name=""/>
              <p:cNvSpPr/>
              <p:nvPr/>
            </p:nvSpPr>
            <p:spPr>
              <a:xfrm>
                <a:off x="28440" y="2003040"/>
                <a:ext cx="6016680" cy="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440" y="6306480"/>
                <a:ext cx="3025800" cy="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440" y="2003040"/>
                <a:ext cx="0" cy="430344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45120" y="2003040"/>
                <a:ext cx="0" cy="167796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54240" y="3681000"/>
                <a:ext cx="0" cy="262512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54240" y="3681000"/>
                <a:ext cx="3025800" cy="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1440" y="6379200"/>
                <a:ext cx="1459800" cy="396720"/>
              </a:xfrm>
              <a:prstGeom prst="rect">
                <a:avLst/>
              </a:prstGeom>
              <a:solidFill>
                <a:srgbClr val="d1d1c1"/>
              </a:solidFill>
              <a:ln w="2844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569"/>
                    </a:solidFill>
                    <a:latin typeface="Verdana"/>
                  </a:rPr>
                  <a:t>Prosess</a:t>
                </a:r>
                <a:endParaRPr b="0" lang="en-US" sz="20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17480" y="2003040"/>
                <a:ext cx="0" cy="167796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0400" y="3737520"/>
                <a:ext cx="3026160" cy="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15440" y="3731040"/>
                <a:ext cx="0" cy="262512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57040" y="6379200"/>
                <a:ext cx="3281400" cy="396720"/>
              </a:xfrm>
              <a:prstGeom prst="rect">
                <a:avLst/>
              </a:prstGeom>
              <a:solidFill>
                <a:srgbClr val="d1d1c1"/>
              </a:solidFill>
              <a:ln w="2844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000" spc="-1" strike="noStrike">
                    <a:solidFill>
                      <a:srgbClr val="002569"/>
                    </a:solidFill>
                    <a:latin typeface="Verdana"/>
                  </a:rPr>
                  <a:t>Resultat frå LpOpt</a:t>
                </a:r>
                <a:endParaRPr b="0" lang="en-US" sz="20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Virkemåte 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03280" y="1268280"/>
            <a:ext cx="36147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var lokale MPC rapporterar den tilgjenglege kapasitet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oordinator MPC har ein enkel lineær modell mellom MVR og dei lokale kapasitetan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Basert på tilbakekopling, koordinator MPC kan lokalisere flaksehalsen og ved å justere føderaten, maksimaliserar strømmingsraten ved flaskehals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407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Uttesting av 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oordinator MPC er utvikla med tanke på Kårstø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3 fødar til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leire crossover mellom ulike delar av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ny ekstraksjonsdel (KEP2005) som sender vidare til ulike fraksjonerings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tort fokus på gjennomstrømm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ørste test: Dynamisk simulering av delar av Kårstø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eringsstudie i D-SPICE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20052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Dynamisk simulator av heile Kårstø anlegget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EPTIC OPC klient kopla til den innebygde OPC Serveren i D-SPIC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Lokal MPC og koordinator MPC er kopla til D-SPICE OPC Server på same måt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Variablar som sendast mellom lokal MPC og koordinator MPC via OPC Server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35280" y="3429000"/>
            <a:ext cx="5398560" cy="2736360"/>
            <a:chOff x="1835280" y="3429000"/>
            <a:chExt cx="5398560" cy="27363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835280" y="3429000"/>
              <a:ext cx="5398560" cy="27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1913760" y="3472200"/>
              <a:ext cx="9133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795840" y="3517920"/>
              <a:ext cx="9126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5744880" y="3497760"/>
              <a:ext cx="913320" cy="57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52480" y="1384200"/>
            <a:ext cx="7439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 (2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8920" y="2491920"/>
            <a:ext cx="8966160" cy="3721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Inkluderar 10 kolonne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7 av disse har MPC regulering i drift per i da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PCUII og C1 kolonne er utelate pga simuleringstid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Illustrerande fordi det inkluderar 3 typar føde ratar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øde til eit 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øde splitta mellom to 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Crossover mellom 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 (3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920" y="2491920"/>
            <a:ext cx="8966160" cy="3721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okale MPC’ane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PC regulering på alle kolonnan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PC struktur den same som i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odellar er derimot tilpassa simulator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ksekvering kvart minut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Tilgjengeleg kapasitet berekna for kvar kolonne og sendt til koordinato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tatusen til den lokale MPC (av/på) sendt til koordinato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 (4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8920" y="1699920"/>
            <a:ext cx="8966160" cy="451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9000"/>
          </a:bodyPr>
          <a:p>
            <a:pPr marL="185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oordinator MPC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CVR: 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59880" indent="-28548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10 kolonne kapasitet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59880" indent="-28548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1 massebalanse (DPCUII –pga avgrensinga i simuleringa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VR: 5 føde ratar (MVR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apasitetsmålet går til ERROR om den lokale MPC’en skrus av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ksekverar kvart 3 minut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Prioriterar dei ulike fødane ved hjelp av IVprio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andterar endring i føderate (modellert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ndring i fødekomposisjon er ikkje målt og må ta dette på tilbakekopl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Utfordringar koordinator MPC i drif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Psykologisk – la ein regulator styre føda og operatøren har ikkje lenger ”full kontroll” på denn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an møte nye avgrensingar når ein køyrer anlegget i nye operasjons område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age modell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ange forstyrringar frå føde til siste kolonn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gjev D-SPICE simulatoren eit godt utgangspunkt for modellane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ette MVR og CVR grenser – særleg difftrykk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Hovudpunk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Problemstill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va er koordinator MPC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mål 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virkemåt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Uttrykke kapasit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muler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EPTIC calc funksjo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imulator eksemp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Vidare arbeid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Vidare arbeid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er: fokusert på destillasjonskolonne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va med kapasitetsmål i andre einingar med MPC regulering? (kompressorar, reaktorar osv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va med meir komplekse kolonner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or stort er tapet i den økonomiske funksjonen pga forenklinga ved føde maksimalisering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Implementering på Kårstø (!?) 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Problemstilling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Real-time optimalisering (RTO) er typisk brukt til maksimalisering av økonomisk objekt funksjo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ykje og tidkrevjande modeller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ksekvering opptrer typisk sjeldnare enn forstyrringar som flyttar det optimale punkt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enkling - anlegg med relativt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ave føde kostnad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ave energi kostnad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øge produkt pris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i="1" lang="nn-NO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gjennomstrømming er den viktigaste variabelen for økonomi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bjekt funksjonen kan forenklast til: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J = føde til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Ideen bak 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MPC i optimalisering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Bør ha ein LP eller QP objekt funksjon (lineær MPC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an bli brukt når det </a:t>
            </a:r>
            <a:r>
              <a:rPr b="1" i="1" lang="nn-NO" sz="1800" spc="-1" strike="noStrike">
                <a:solidFill>
                  <a:srgbClr val="002569"/>
                </a:solidFill>
                <a:latin typeface="Verdana"/>
              </a:rPr>
              <a:t>optimale punktet er plassert på avgrensin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Treng smart dekomponerin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Fordelar samanlikna med RTO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Mindre modell utvikling (ingen</a:t>
            </a:r>
            <a:r>
              <a:rPr b="1" i="1" lang="nn-NO" sz="1800" spc="-1" strike="noStrike">
                <a:solidFill>
                  <a:srgbClr val="002569"/>
                </a:solidFill>
                <a:latin typeface="Verdana"/>
              </a:rPr>
              <a:t> rigorøs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 modell utvikling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ontinuerleg optimalisering med </a:t>
            </a:r>
            <a:r>
              <a:rPr b="1" i="1" lang="nn-NO" sz="1800" spc="-1" strike="noStrike">
                <a:solidFill>
                  <a:srgbClr val="002569"/>
                </a:solidFill>
                <a:latin typeface="Verdana"/>
              </a:rPr>
              <a:t>tilbakekoplin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Raskare korreksjonar av forstyrringar, modellfeil og transient dynamikk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Ulemper samanlikna med RTO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Ikkje noko planleggings verktøy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Mogleg tap på grunn av forenkling i objekt funksjon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560" y="1279440"/>
            <a:ext cx="44067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Ofte ikkje hensiktsmessig å samle alt i ein MPC applikasjo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tor og uoversiktle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vanskelegare modellering og vedlikehald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vel heller å koordinere dei lokale MPC’ane 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Operere raskare enn RTO, typisk 3-5 gongar sample tida til dei lokale MPC’an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Utfordring: sende tilstrekkeleg informasjon mellom laga i hierarkiet utan å sende all informasjon (smart dekomponering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08440" y="1803240"/>
            <a:ext cx="4286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Føde maksimalisering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6160" cy="49338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enkla objekt funksjon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J = føde til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ette krev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versikt over kapasiteten i kvar enkelt del av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å finne eit uttrykk for denne kapasitet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okalisering av flaskehalsar og oppretthalde maksimum gjennomstrømming ved desse punkta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Utnytte den lokale MPC applikasjonen – den har den informasjonen som trengs!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Kolonne kapasite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8560" y="1279440"/>
            <a:ext cx="44067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or mykje føde kan kolonna ta i mot? 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an uttrykkast som eit </a:t>
            </a:r>
            <a:r>
              <a:rPr b="1" lang="nn-NO" sz="1800" spc="-1" strike="noStrike">
                <a:solidFill>
                  <a:srgbClr val="002569"/>
                </a:solidFill>
                <a:latin typeface="Verdana"/>
              </a:rPr>
              <a:t>LP problem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Hentar info frå den lokale MPC applikasjonen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teady state verdien (getssval) for CVR og MVR for noverande tilstand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CVR og MVR grenser (eller spesifisert av brukar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Utrekna i den lokale MPC’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LP løysar implementert i SEPTIC - CalcLpOpt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50200" y="155736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CV:produkt kvalitetar,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diff tryk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9900"/>
                </a:solidFill>
                <a:latin typeface="Times New Roman"/>
              </a:rPr>
              <a:t>MV:refluks, kok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921f7"/>
                </a:solidFill>
                <a:latin typeface="Times New Roman"/>
              </a:rPr>
              <a:t>DV:føde r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419280" cy="277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693040" y="1125360"/>
            <a:ext cx="217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Kapasitet gitt av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LP formulering – matematisk 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915080" cy="27972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implex algoritmen er på formen</a:t>
            </a:r>
            <a:r>
              <a:rPr b="0" lang="nn-NO" sz="1800" spc="-1" strike="noStrike" baseline="30000">
                <a:solidFill>
                  <a:srgbClr val="002569"/>
                </a:solidFill>
                <a:latin typeface="Verdana"/>
              </a:rPr>
              <a:t>1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6880" y="1125000"/>
            <a:ext cx="4406760" cy="230364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Definerar x som vektor av MVR og DVR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662200" cy="22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165720"/>
            <a:ext cx="70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2569"/>
                </a:solidFill>
                <a:latin typeface="Verdana"/>
              </a:rPr>
              <a:t>1. Press et al. </a:t>
            </a:r>
            <a:r>
              <a:rPr b="0" i="1" lang="nb-NO" sz="1200" spc="-1" strike="noStrike">
                <a:solidFill>
                  <a:srgbClr val="002569"/>
                </a:solidFill>
                <a:latin typeface="Verdana"/>
              </a:rPr>
              <a:t>Numerical recipes in C. </a:t>
            </a:r>
            <a:r>
              <a:rPr b="0" lang="nb-NO" sz="1200" spc="-1" strike="noStrike">
                <a:solidFill>
                  <a:srgbClr val="002569"/>
                </a:solidFill>
                <a:latin typeface="Verdana"/>
              </a:rPr>
              <a:t>Cambridge University Press, 1992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1328760" cy="165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3357720"/>
            <a:ext cx="39067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2569"/>
                </a:solidFill>
                <a:latin typeface="Verdana"/>
              </a:rPr>
              <a:t>Algoritmen krever positiv x, redefinerar derfor til X: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4005360"/>
            <a:ext cx="2953080" cy="311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4076640"/>
            <a:ext cx="6715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2569"/>
                </a:solidFill>
                <a:latin typeface="Verdana"/>
              </a:rPr>
              <a:t>Modellmatrisa er på formen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55480" y="4564080"/>
            <a:ext cx="61786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LP formulering – matematisk (2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9000"/>
          </a:bodyPr>
          <a:p>
            <a:pPr marL="185040" indent="-1850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P problemet blir då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er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c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er koeffisientane i objekt funksjon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øme: Gitt X=[ Refluks, TC, kolonneføde]</a:t>
            </a:r>
            <a:r>
              <a:rPr b="0" lang="nn-NO" sz="2000" spc="-1" strike="noStrike" baseline="30000">
                <a:solidFill>
                  <a:srgbClr val="002569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 å maksimalisere føda gjev d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	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c</a:t>
            </a:r>
            <a:r>
              <a:rPr b="0" i="1" lang="nn-NO" sz="2000" spc="-1" strike="noStrike" baseline="30000">
                <a:solidFill>
                  <a:srgbClr val="002569"/>
                </a:solidFill>
                <a:latin typeface="Verdana"/>
              </a:rPr>
              <a:t>T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= [ 0 0 1]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453000" cy="2209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67640" y="278136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(*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4:51:28Z</dcterms:created>
  <dc:creator>Aske, Elvira Marie B.</dc:creator>
  <dc:description/>
  <dc:language>en-US</dc:language>
  <cp:lastModifiedBy>Sigurd Skogestad</cp:lastModifiedBy>
  <dcterms:modified xsi:type="dcterms:W3CDTF">2006-10-02T07:52:26Z</dcterms:modified>
  <cp:revision>63</cp:revision>
  <dc:subject/>
  <dc:title>Koordinator MPC med fokus på føde maksimalisering</dc:title>
</cp:coreProperties>
</file>